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104-E77E-4997-8021-A73FB296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2CD-4AE6-427A-9458-13797CC5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023-2833-42F3-A97A-215E409B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25B-047A-4910-946C-FA6A5EE2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400D-8954-46D8-A5E7-C2629CA6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E603-07B0-4C02-B21B-A96C1161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48BD-EA50-4737-A059-4DA272AD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938F-338C-4BEA-AC70-913B0ED3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AD03-9A1B-4047-A8F5-080A9201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AFB8-8AC4-4995-B33E-742DAAEB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204E-51E5-43F2-AFEC-B510836E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B05-C863-4995-8966-EC17F947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CBF5-B2BF-42C2-A5F5-11ADC331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5E51-7DA2-4C87-9817-46A5830A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FB90-9B6D-4B13-85A2-52181F1D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5F8C-1CD4-4918-8A84-179C55E2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D90C-22D8-4FDE-88FB-5E3BD47A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D96-3CAA-447A-BC77-76E3FE4B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B836-E036-4081-8858-BD8BD739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A61-26B2-4C14-B95F-04A27AC4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F34-CE7F-4079-B235-7D47DAB1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A4F-E0CD-47AC-BA46-8F090402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EB9-74EC-41FA-ABAB-EA4D0D1C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A85-09C2-4D2B-AD74-0112A8EE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C9D5-4F36-499E-81D4-E0F29884D97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1E1E-55F5-40E1-B7F7-BC6E4E05438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ra.co.uk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4600"/>
            </a:br>
            <a:r>
              <a:rPr b="1" lang="en-US" sz="46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 I: The Nature of Research: Research eth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shop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ethical pract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the form write down example of unethical practice and the reasons why you think they are 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ke your Ethics committees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1                  proposal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2                  proposal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3                  proposal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a name to your group, discuss your proposal and grade it from 1 to 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5 is very ethical and 1 very uneth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3995640" y="256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3995640" y="31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3995640" y="3645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Ethical considerations are important throughout the whole process of the resear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Researchers have to weigh up  the possible benefits of their study and the possible harm caused to all parties involv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motional, financial physical, psychological ham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Arial"/>
              </a:rPr>
              <a:t>Ethics committe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Educational Research Association - 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ww.bera.co.u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case description and answer to the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6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stand importance of ethics in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ility to apply ethic to research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ility to review ethics in other people’s resear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you know what is…….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hic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hical jud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nym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ence of ha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e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giar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 this ethical behaviou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ff"/>
                </a:solidFill>
                <a:latin typeface="Arial"/>
              </a:rPr>
              <a:t>Group 1 read “</a:t>
            </a:r>
            <a:r>
              <a:rPr b="0" i="1" lang="en-US" sz="3000" spc="-1" strike="noStrike">
                <a:solidFill>
                  <a:srgbClr val="ff99ff"/>
                </a:solidFill>
                <a:latin typeface="Arial"/>
              </a:rPr>
              <a:t>Simple leve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Group 2 read</a:t>
            </a:r>
            <a:r>
              <a:rPr b="0" i="1" lang="en-US" sz="3000" spc="-1" strike="noStrike">
                <a:solidFill>
                  <a:srgbClr val="00b050"/>
                </a:solidFill>
                <a:latin typeface="Arial"/>
              </a:rPr>
              <a:t> “ Intermediate leve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Arial"/>
              </a:rPr>
              <a:t>Group 3 read</a:t>
            </a:r>
            <a:r>
              <a:rPr b="0" i="1" lang="en-US" sz="3000" spc="-1" strike="noStrike">
                <a:solidFill>
                  <a:srgbClr val="00b0f0"/>
                </a:solidFill>
                <a:latin typeface="Arial"/>
              </a:rPr>
              <a:t> “ Advanced leve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k yoursel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How would children feel if no one picks them as friend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Are children sincere in their choice or copy 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Should this data collection occu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Is this cruel to monkey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Does the end justify the mea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What is the opinion about secret came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What is the opinion about showing violence even to a dol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Should these types of experiments be allow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w you know what is…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99"/>
                </a:solidFill>
                <a:latin typeface="Arial"/>
              </a:rPr>
              <a:t>Ethic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ral principals that control a person’s behavi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Arial"/>
              </a:rPr>
              <a:t>Ethical judgmen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orally correct behavi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00"/>
                </a:solidFill>
                <a:latin typeface="Arial"/>
              </a:rPr>
              <a:t>Informed consen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ving consent from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Confidentialit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ing information only for the purpose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Anonymit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ot revealing the identity of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w you know what is…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Arial"/>
              </a:rPr>
              <a:t>Absence of harm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harming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Deception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ing dishonest about true intention to collec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Arial"/>
              </a:rPr>
              <a:t>Plagiarism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ying data of others without con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ff"/>
                </a:solidFill>
                <a:latin typeface="Arial"/>
              </a:rPr>
              <a:t>Storage data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e data for other occasion and purpo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uiding principles for ethical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Respect of participants</a:t>
            </a:r>
            <a:r>
              <a:rPr b="0" lang="en-US" sz="3000" spc="-1" strike="noStrike">
                <a:solidFill>
                  <a:srgbClr val="6600cc"/>
                </a:solidFill>
                <a:latin typeface="Arial"/>
              </a:rPr>
              <a:t> (privacy, culture, personal dign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Respects of the participants’ rights</a:t>
            </a:r>
            <a:r>
              <a:rPr b="0" lang="en-US" sz="3000" spc="-1" strike="noStrike">
                <a:solidFill>
                  <a:srgbClr val="ff99ff"/>
                </a:solidFill>
                <a:latin typeface="Arial"/>
              </a:rPr>
              <a:t> (protection from harm, be fully informed on the purpose of the research and to be listen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Best outcomes</a:t>
            </a:r>
            <a:r>
              <a:rPr b="0" lang="en-US" sz="3000" spc="-1" strike="noStrike">
                <a:solidFill>
                  <a:srgbClr val="d60093"/>
                </a:solidFill>
                <a:latin typeface="Arial"/>
              </a:rPr>
              <a:t> (promote best outcomes/benefits for participan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anning ethical interview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are going to interview grade 7 boys about fighting in the playgrou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what you would say to them to ensure that the interview will be eth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it first without template and than compare it with temp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3:50:00Z</dcterms:created>
  <dc:creator>user</dc:creator>
  <dc:description/>
  <dc:language>en-US</dc:language>
  <cp:lastModifiedBy>t.alnuimi</cp:lastModifiedBy>
  <dcterms:modified xsi:type="dcterms:W3CDTF">2008-08-07T10:42:26Z</dcterms:modified>
  <cp:revision>8</cp:revision>
  <dc:subject/>
  <dc:title>Course: Fundamentals of Research</dc:title>
</cp:coreProperties>
</file>